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35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287360" y="674640"/>
            <a:ext cx="4502160" cy="3376800"/>
          </a:xfrm>
          <a:prstGeom prst="rect">
            <a:avLst/>
          </a:prstGeom>
          <a:noFill/>
          <a:ln w="1260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4010040" y="8553600"/>
            <a:ext cx="306720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F2FC6-BC24-4E00-BA17-FF0B8662F8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87360" y="674640"/>
            <a:ext cx="4502160" cy="3376800"/>
          </a:xfrm>
          <a:prstGeom prst="rect">
            <a:avLst/>
          </a:prstGeom>
          <a:ln w="0">
            <a:noFill/>
          </a:ln>
        </p:spPr>
      </p:sp>
      <p:sp>
        <p:nvSpPr>
          <p:cNvPr id="4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80D9B-5F04-4BE8-A127-FDA12FA0546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87360" y="674640"/>
            <a:ext cx="4502160" cy="3376800"/>
          </a:xfrm>
          <a:prstGeom prst="rect">
            <a:avLst/>
          </a:prstGeom>
          <a:ln w="0">
            <a:noFill/>
          </a:ln>
        </p:spPr>
      </p:sp>
      <p:sp>
        <p:nvSpPr>
          <p:cNvPr id="43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against discrimination went on for years but thanks to all who worked hard for desegregation it happened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ident John F. Kenned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ised to end racial discrimination during is inaugural address in 1961.  at the time restaurants, bathrooms and water fountains were all segreagted. During his time in office kennedy appointed black people to many federal positions, and made the civil rights act possible. The Civil Rights Act of 1963 had eigh sections including lawas to guarantee all people would have equal access to hotels restaurants and other public places. As well as helping black voting rights and school desegregation. President kennedy didn’t see his Civil rights act of 1963 become a law but Lyndon B. Johnson brought it to congress and watched it pass as the Civil Rights Act of 196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EDAF8-A003-46FB-A9E5-9C16F00D2074}"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E0E28-3419-4263-A190-88E26D3EAF6C}"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6" name="PlaceHolder 1"/>
          <p:cNvSpPr>
            <a:spLocks noGrp="1"/>
          </p:cNvSpPr>
          <p:nvPr>
            <p:ph type="sldImg"/>
          </p:nvPr>
        </p:nvSpPr>
        <p:spPr>
          <a:xfrm>
            <a:off x="1287360" y="674640"/>
            <a:ext cx="4502160" cy="3376800"/>
          </a:xfrm>
          <a:prstGeom prst="rect">
            <a:avLst/>
          </a:prstGeom>
          <a:ln w="0">
            <a:noFill/>
          </a:ln>
        </p:spPr>
      </p:sp>
      <p:sp>
        <p:nvSpPr>
          <p:cNvPr id="43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roblems with multiculturalism being taught in classrooms has a lot to do with the fact that there are older teachers in our classrooms that are overrepresented in the dominant culture.  New movements to emphasize diversity among students stress the importance of educating our teachers properly because they are the immediate bridge between students and appreciating other cultures.  Teachers must learn about the different cultures in our country and the world as well so they can relate to students.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 alarming fact to note is that in a recent study of teacher education strategies only 8 out of 16 involved inclusion of all cultures and tracks and exceptionalitie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Unfortunately the hidden curriculum that is often taught by most education systems is that of regurgitation.  The whole process is defined by its nature of being told what to study, learning it and mindlessly remembering it when asked.  The material is learned without being understood, and this problem follows a ripple pattern.  If this is the only education teachers receive, what type of education are the students getti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st of the problem lies in the fact that teachers are white.  In order to better prepare our teachers for the diversity that exists in the real world we need to reach out to the multicultural teachers and consult them as to the preparations they make for the classroom.  The problem is the continuation of white middle class educators being taught by white middle class educators, trying to teach to a diverse student base.</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ccountability and no child left behind legislation has pushed for education to frequently become more streamlined and compartmentalized, much to the detriment of educators and students alike.  However the problem lies even further in that teacher education is regarding multiculturalism as a small facet of education to be taught and learned just as a math equation.  However, in real life this is not the case, and neither can be the way we educate our teachers to deal with diverse classrooms.</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05E38-01DE-497D-B0A2-CE5C202C822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39" name="PlaceHolder 1"/>
          <p:cNvSpPr>
            <a:spLocks noGrp="1"/>
          </p:cNvSpPr>
          <p:nvPr>
            <p:ph type="sldImg"/>
          </p:nvPr>
        </p:nvSpPr>
        <p:spPr>
          <a:xfrm>
            <a:off x="1287360" y="674640"/>
            <a:ext cx="4502160" cy="3376800"/>
          </a:xfrm>
          <a:prstGeom prst="rect">
            <a:avLst/>
          </a:prstGeom>
          <a:ln w="0">
            <a:noFill/>
          </a:ln>
        </p:spPr>
      </p:sp>
      <p:sp>
        <p:nvSpPr>
          <p:cNvPr id="44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has been made clear that the ultimate responsibility for multiculturalism reaching our schools is through teachers.  Some of the problems that these teachers face are feelings of inadequacy, such that white teachers feel they are not equipped to teach about other cultures because they know little of them.</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is argument does not hold up because there are plenty of historians who teach about events and peoples they know nothing of yet research and find out about.  The same can be done with our teachers, by simply immersing themselves in the other cultures, as they should do with their students as well.  We already know that teaching is a constantly changing profession and research is a strong component of efficient teaching.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so, an important matter that has been discussed is that students only can benefit from their learning if it is reinforced at home.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s with any bias or prejudice, we must not judge by what we see or hear on the outside from students. Just because a student looks to be of one culture or race, we may have stereotypes ingrained in our heads that prevent us from providing the proper educational opportunities to all students.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e must also remember that it takes immersion for all of us to learn about another culture and then once we know it we can celebrate it.  However, it is important to note that while cultures may have different values or holidays, there are general human conditions that exist in common with all peoples.  There are certain underlying essences that often are expressed in different trends, but we must all remember that whatever the outside shows, we are all of the same humanity.</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8D5EB-5BFA-48D6-B260-AED12E0E5EC0}"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
        <p:nvSpPr>
          <p:cNvPr id="442" name="PlaceHolder 1"/>
          <p:cNvSpPr>
            <a:spLocks noGrp="1"/>
          </p:cNvSpPr>
          <p:nvPr>
            <p:ph type="sldImg"/>
          </p:nvPr>
        </p:nvSpPr>
        <p:spPr>
          <a:xfrm>
            <a:off x="1287360" y="674640"/>
            <a:ext cx="4502160" cy="3376800"/>
          </a:xfrm>
          <a:prstGeom prst="rect">
            <a:avLst/>
          </a:prstGeom>
          <a:ln w="0">
            <a:noFill/>
          </a:ln>
        </p:spPr>
      </p:sp>
      <p:sp>
        <p:nvSpPr>
          <p:cNvPr id="44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ulticulturalism helps us all to understand each other more as a society rather than “just another person,” or “just another --- of person.”  When we know each other and have respect for each other’s cultures and ways of life, we can celebrate our differences and our similarities at the same time.  We can learn not only more socially about our neighbors, but we can also learn what methods work better in relating to each other in and out of the classroom.</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other problem tied to urban districts is the wall of multiculturalism.  Many teachers are at a loss for how to grasp the attention and understanding of all the students.  Some times language barriers contribute to the problems that districts have in teaching all of their students effectively.  Some students may feel alienated from the majority socially, and therefore do not participate well in academic settings.  Furthering the problem is still the issue of the dominant culture representing the teache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mentioned there is much educational value to be found in the understanding of all cultures.  Many of the lower test scores that have been recorded belong to students of diverse backgrounds, and that is an issue that we must all be held accountable for as per No Child Left Behind.  The more that students are educated about each other, the more together they all feel and the more willingness to learn there is among all student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iterature and social studies afford the most concrete curricular outlets to include multicultural ideals.  Students can learn literature from other cultures, and in that way learn about histories and values of their classmates.  History and social studies courses can include many backgrounds of each culture.  Instead of just American history schools can teach about world history as well.  Home economics classes can practice cooking meals that represent the foods of different cultures as well.  Art classes can provide students with projects ranging from different cultures.  Music classes can also study and learn many cultures’ musical customs as well.</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 addition to the classroom topics, other resources around the school and community would benefit the students greatly. Students can participate in language clubs or culture clubs to celebrate their heritage.  Physical education classes can include different sports in their curriculum that reflect different cultures or groups. Students can also hold events where everyone dresses up in cultural dress, etc.</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87360" y="674640"/>
            <a:ext cx="4502160" cy="3376800"/>
          </a:xfrm>
          <a:prstGeom prst="rect">
            <a:avLst/>
          </a:prstGeom>
          <a:ln w="0">
            <a:noFill/>
          </a:ln>
        </p:spPr>
      </p:sp>
      <p:sp>
        <p:nvSpPr>
          <p:cNvPr id="445"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hools need to go beyond just accepting diverse students into the school. There was one main quote that allowed me to further look up a few of the ways to incorporate multiculturalism. That quote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number of ethnically diverse students sitting in the classrooms does not make a school multicultural. All that this may simply represent is that students have gained access to the school” (multiculturalism). This meaning that if a person from a different cultural is sitting next to you, it doesn’t mean that multiculturalism exists within the school. Schools need to do more to spread the knowledge about the person from a different culture sitting next to you, not just allow them to sit the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go further schools need to incorporate more of the students backgrounds. Its not only about books teaching students or teachers telling them. It helps to learn from the individuals around you.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do this by organizing an international food fair. (multiculturalism) You can have different students research a certain culture and make a food item from that culture. They did this in my school. Every student would look up a culture, make a poster, and a food dish. They would set it up in the library and have classrooms come down to learn about the culture as well as experience something that they would e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s can also have posters of important diverse figures in society and from our history up on the walls. (multiculturalism) Posters on the walls can draw attention to students and have them wonder who that person wa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teachers play a big role in how multiculturalism can be spread. They can study cultures in order to better understand their students. That way the teacher becomes familiar with each student as an individual and not a whole. The whole being the dominate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tly, students can share their experiences that way they learn from one another. (multiculturalism)</a:t>
            </a:r>
            <a:endParaRPr b="0" lang="en-US" sz="1200" spc="-1" strike="noStrike">
              <a:solidFill>
                <a:srgbClr val="000000"/>
              </a:solidFill>
              <a:latin typeface="Calibri"/>
            </a:endParaRPr>
          </a:p>
        </p:txBody>
      </p:sp>
      <p:sp>
        <p:nvSpPr>
          <p:cNvPr id="44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1895A-3731-4405-B285-5A15A5A7D97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87360" y="674640"/>
            <a:ext cx="4502160" cy="3376800"/>
          </a:xfrm>
          <a:prstGeom prst="rect">
            <a:avLst/>
          </a:prstGeom>
          <a:ln w="0">
            <a:noFill/>
          </a:ln>
        </p:spPr>
      </p:sp>
      <p:sp>
        <p:nvSpPr>
          <p:cNvPr id="44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building devoted to spreading multiculturalism within URI. It is called the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works on making as well as maintaining diversity throughout this campus, and invites any person willing to better learn about the individuals around the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statement that somewhat wraps this entire concept up.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URI Multicultural Center (MCC) is a place dedicated to developing a supportive and inclusive campus culture across the boundaries of culture, identity, and discipline. Celebrating unity in diversity, the Multicultural Center invites all of it's students, faculty, staff, administrators, alumni, and other friends to join in its work in creating a community of learners within and beyond URI. (Multicultural Cente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ork on creating this type of community through programs </a:t>
            </a:r>
            <a:endParaRPr b="0" lang="en-US" sz="1200" spc="-1" strike="noStrike">
              <a:solidFill>
                <a:srgbClr val="000000"/>
              </a:solidFill>
              <a:latin typeface="Calibri"/>
            </a:endParaRPr>
          </a:p>
        </p:txBody>
      </p:sp>
      <p:sp>
        <p:nvSpPr>
          <p:cNvPr id="44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B342D-23CC-430A-B900-1258AC44967A}"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87360" y="674640"/>
            <a:ext cx="4502160" cy="3376800"/>
          </a:xfrm>
          <a:prstGeom prst="rect">
            <a:avLst/>
          </a:prstGeom>
          <a:ln w="0">
            <a:noFill/>
          </a:ln>
        </p:spPr>
      </p:sp>
      <p:sp>
        <p:nvSpPr>
          <p:cNvPr id="451" name="PlaceHolder 2"/>
          <p:cNvSpPr>
            <a:spLocks noGrp="1"/>
          </p:cNvSpPr>
          <p:nvPr>
            <p:ph type="body"/>
          </p:nvPr>
        </p:nvSpPr>
        <p:spPr>
          <a:xfrm>
            <a:off x="707760" y="4276800"/>
            <a:ext cx="5661000" cy="405288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11 programs within the multicultural center that are taking and have been taken place on campus this yea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being Diversity Week; diversity being a main focus in multiculturalism.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is program celebrates the importance of diversity and identity in higher education, in the workplace, in the community, and in the global aren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create this they had help from the psychology, sociology and other departments in order to make this week its best. The main part of this week is the scheduled workshops that anyone can go to. They have a variety of topics and ways of broadening they way people think in this area. (multicultural cent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my URI 101 class we had to go to one, and it was actually interesting. It wasn’t what I expected at all. It was a PowerPoint presentation about a certain type of person in our society. He used modern movies to help us better understand this figur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E2314-5DC7-4496-880B-A03A54C6CD87}"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87360" y="674640"/>
            <a:ext cx="4502160" cy="3376800"/>
          </a:xfrm>
          <a:prstGeom prst="rect">
            <a:avLst/>
          </a:prstGeom>
          <a:ln w="0">
            <a:noFill/>
          </a:ln>
        </p:spPr>
      </p:sp>
      <p:sp>
        <p:nvSpPr>
          <p:cNvPr id="45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lebrations around the world focuses on celebrating the coming of a new year in a variety of different cultures. Students come together in order to share how they celebrate their holiday and how it differs from others. They do this through teaching the culture customs that come with each holiday. This includes the music that’s involved and the different costumes that they may wear. Students share the different holiday’s including Kwanzaa, Christmas, Ramadan, Three Kings, Diwali, Hanukkah, and Chinese New Year. With each event, students learn of a culture different than their own.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ll campus talent show is exactly what the name states. It is when the entire URI campus can come together and share the talents they may posses. This allows students to see the variety our campus has, according to what skill students may bring to the table. (multicultural center)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iversity quilt is a material way of showing the diversity of the students here at URI. It simply symbolizes how every culture, every person regardless of their background is literally coming together when the quilt is sewn together. The blocks on the quilt represent something different, and tells the story of the importance of multiculturalism.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event is World Voices, World Visions. Even when school is not in session, the multicultural center is still working on spreading its philosophy because this event takes place during the summer. Not only does the center try to spread multiculturalism throughout campus, it also designs ways to include younger people, because this program is open to all ages. This is a week during the summer where music, dance and the art of different cultures is incorporated. (multicultural cente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basic objective of this event, “is to understand and appreciate the diverse streams of global culture, identity, and community through exposure to and participation in traditional arts as well as pubic dialogue. (multicultural center)”</a:t>
            </a:r>
            <a:endParaRPr b="0" lang="en-US" sz="1200" spc="-1" strike="noStrike">
              <a:solidFill>
                <a:srgbClr val="000000"/>
              </a:solidFill>
              <a:latin typeface="Calibri"/>
            </a:endParaRPr>
          </a:p>
        </p:txBody>
      </p:sp>
      <p:sp>
        <p:nvSpPr>
          <p:cNvPr id="45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F2578-755F-4632-B18F-2DE6B60EEA3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287360" y="674640"/>
            <a:ext cx="4502160" cy="3376800"/>
          </a:xfrm>
          <a:prstGeom prst="rect">
            <a:avLst/>
          </a:prstGeom>
          <a:ln w="0">
            <a:noFill/>
          </a:ln>
        </p:spPr>
      </p:sp>
      <p:sp>
        <p:nvSpPr>
          <p:cNvPr id="40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13F59-B396-40AF-9AEA-D665BCDC2A4A}"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87360" y="674640"/>
            <a:ext cx="4502160" cy="3376800"/>
          </a:xfrm>
          <a:prstGeom prst="rect">
            <a:avLst/>
          </a:prstGeom>
          <a:ln w="0">
            <a:noFill/>
          </a:ln>
        </p:spPr>
      </p:sp>
      <p:sp>
        <p:nvSpPr>
          <p:cNvPr id="41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Separate but equal was the phrase to make minorities think segregation was constitutional.  The only problem was that the government did not regulate equality.  Throughout history we have seen many accounts of segregation.  Whether it be in schools, restaurants, busses, and so on.  Segregation has affected many people.  Minorities have suffered from separation and lack of equality.  Finally, schools are taking proper measures to accompany their minority students.  Multiculturalism in schools is becoming more prevalent, and helping all students understand cultures.  Children today can thank the strong activists of the past who strove for equality.  We see this push for equality and integration in cases like Plessey vs. Ferguson, Brown vs. Board, The Little Rock Nine, Sit-ins, and integration in major Universities like Ole Mi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2E854-46F3-4C6D-9880-7437136ADEB3}"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87360" y="674640"/>
            <a:ext cx="4502160" cy="3376800"/>
          </a:xfrm>
          <a:prstGeom prst="rect">
            <a:avLst/>
          </a:prstGeom>
          <a:ln w="0">
            <a:noFill/>
          </a:ln>
        </p:spPr>
      </p:sp>
      <p:sp>
        <p:nvSpPr>
          <p:cNvPr id="41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ne 7, 1892 Plessy boarded a car on the Louisiana Railroad.  Car happened to “Whites Only.”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ssy, in this planned act of disobedience sat there and refused to go to the “Colored” car.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was arrested and jai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er Plessy went to court, Judge John Howard Ferguson ruled that Louisiana had the right to regulate its railroad companies as long as it operated within state boundaries. (Br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se was appealed, and Albion Tourgee was the one defending Plessy.  (Broo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U.S. Supreme Court denied Plessy’s argument based on the fourteenth Amendment.  Louisiana did not violate law at all. (Lofgr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232BD-FF99-42FD-8027-F7F2951540D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87360" y="674640"/>
            <a:ext cx="4502160" cy="3376800"/>
          </a:xfrm>
          <a:prstGeom prst="rect">
            <a:avLst/>
          </a:prstGeom>
          <a:ln w="0">
            <a:noFill/>
          </a:ln>
        </p:spPr>
      </p:sp>
      <p:sp>
        <p:nvSpPr>
          <p:cNvPr id="41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opeka, Kansas a suit was filed against the Board of Educ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laitiffs were thirteen Topeka parents calling for desegregation.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iver Brown was one of these parents.  His daughter had to walk six extra blocks to the bus stop which took her to Monroe Elementary, which was a colored school.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nal decision was that similar to the Plessy case.  Separate but Equal was the standard given.  The court did not deny the fact that all races need equal education, but given the case, Monroe Elementary and the white school were very equal on most planes.  (Klu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15E68-F2FE-4B18-BBEB-2BCBD6C3BD5D}"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87360" y="674640"/>
            <a:ext cx="4502160" cy="3376800"/>
          </a:xfrm>
          <a:prstGeom prst="rect">
            <a:avLst/>
          </a:prstGeom>
          <a:ln w="0">
            <a:noFill/>
          </a:ln>
        </p:spPr>
      </p:sp>
      <p:sp>
        <p:nvSpPr>
          <p:cNvPr id="42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ancements for desegregation were finally made in the Little Rock nine case.  The U.S. Supreme Court decided that all laws calling for segregation were unconstitutional.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fter desegregation was instituted by the U.S. Government the National Association for the Advancement of Colored People (NAACP) enrolled African American students into all “white” schools throughout the south.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tle Rock School Board agreed to comply with the new mandates on a diverse scho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ots broke out, and the security of the nine African American students enrolled was at risk.  The National Guard and armed forces were brought in to Arkansas to aid in the integration. (Be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78862-5377-4A56-A457-B7DDA665A0DB}"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87360" y="674640"/>
            <a:ext cx="4502160" cy="3376800"/>
          </a:xfrm>
          <a:prstGeom prst="rect">
            <a:avLst/>
          </a:prstGeom>
          <a:ln w="0">
            <a:noFill/>
          </a:ln>
        </p:spPr>
      </p:sp>
      <p:sp>
        <p:nvSpPr>
          <p:cNvPr id="42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February 1</a:t>
            </a:r>
            <a:r>
              <a:rPr b="0" lang="en-US" sz="1200" spc="-1" strike="noStrike" baseline="30000">
                <a:solidFill>
                  <a:srgbClr val="000000"/>
                </a:solidFill>
                <a:latin typeface="Calibri"/>
              </a:rPr>
              <a:t>st</a:t>
            </a:r>
            <a:r>
              <a:rPr b="0" lang="en-US" sz="1200" spc="-1" strike="noStrike">
                <a:solidFill>
                  <a:srgbClr val="000000"/>
                </a:solidFill>
                <a:latin typeface="Calibri"/>
              </a:rPr>
              <a:t> 1960 four African American students sat down for lunch at Woolworths in Greensboro, North Carolina.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They were denied service, and would not leave until served lun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ir peaceful protest inspired many to help with the civil rights movement.  Each day more and more people came to sit at the counter until served.  This movement led the charge for equality in public places. (Smithson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8F722-43A4-4A08-BA74-A651A5270219}"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87360" y="674640"/>
            <a:ext cx="4502160" cy="3376800"/>
          </a:xfrm>
          <a:prstGeom prst="rect">
            <a:avLst/>
          </a:prstGeom>
          <a:ln w="0">
            <a:noFill/>
          </a:ln>
        </p:spPr>
      </p:sp>
      <p:sp>
        <p:nvSpPr>
          <p:cNvPr id="42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es Howard Meredith was the first student to enroll at the University of Mississipp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first he was denied enrollment, but finally Attorney General Robert Kennedy granted Meredith access to the University.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October 1</a:t>
            </a:r>
            <a:r>
              <a:rPr b="0" lang="en-US" sz="1200" spc="-1" strike="noStrike" baseline="30000">
                <a:solidFill>
                  <a:srgbClr val="000000"/>
                </a:solidFill>
                <a:latin typeface="Calibri"/>
              </a:rPr>
              <a:t>st</a:t>
            </a:r>
            <a:r>
              <a:rPr b="0" lang="en-US" sz="1200" spc="-1" strike="noStrike">
                <a:solidFill>
                  <a:srgbClr val="000000"/>
                </a:solidFill>
                <a:latin typeface="Calibri"/>
              </a:rPr>
              <a:t>, 1962 Meredith was admitted to the University.  This admittance sparked riots, and required the U.S. Marshalls to protect Meredith. (Univers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5BE9F-7EA0-4CF3-AFE0-F3A90516DBA0}"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87360" y="674640"/>
            <a:ext cx="4502160" cy="3376800"/>
          </a:xfrm>
          <a:prstGeom prst="rect">
            <a:avLst/>
          </a:prstGeom>
          <a:ln w="0">
            <a:noFill/>
          </a:ln>
        </p:spPr>
      </p:sp>
      <p:sp>
        <p:nvSpPr>
          <p:cNvPr id="43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egregation is the process of ending racial segre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of the court cases mentioned the US supreme court declared segregated schools unconstitution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parate but equal schools were no longer acceptable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rt ordered desegregation of the schoo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schools began to desegregate other areas of the United states were still separ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ght for complete segregation began before this and continued after.</a:t>
            </a:r>
            <a:endParaRPr b="0" lang="en-US" sz="1200" spc="-1" strike="noStrike">
              <a:solidFill>
                <a:srgbClr val="000000"/>
              </a:solidFill>
              <a:latin typeface="Calibri"/>
            </a:endParaRPr>
          </a:p>
        </p:txBody>
      </p:sp>
      <p:sp>
        <p:nvSpPr>
          <p:cNvPr id="431" name="Slide Number Placeholder 3"/>
          <p:cNvSpPr/>
          <p:nvPr/>
        </p:nvSpPr>
        <p:spPr>
          <a:xfrm>
            <a:off x="4010040" y="8553600"/>
            <a:ext cx="306720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D1CC3-038C-4343-83A5-6CDEDE5C41DE}"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88E25-3663-4274-B1FE-12E2969C3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684EB-7B08-4509-8366-F7A209C7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4734C-3392-4220-AB77-F0C5096BD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5767D-0565-40E5-A894-5229DDE20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AB7F2F-B1B8-4F67-A564-9699B66EB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075207-27C5-44A9-B5DA-371FD7495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43A228-8AD1-4A7B-B3DD-E696DC064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56E398-9256-455C-A750-379F79800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6B7E3C-68D6-454D-A704-7158BCE77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037D92-8A36-4A3F-B6D7-5E9189EB0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EF4E86-1E01-4AAD-8100-F95F74D5D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F76F-1B3C-4520-B96C-CACA258A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24D4E8-F07A-4849-BEC8-AD2CC8ACF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C37D98-9530-4AF7-90A1-B0ADF5E02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31721D-440F-4B8C-82DA-779D3A628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C1CAA2-9DF6-4249-89B4-D8A6C9E05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D4BAA0-2A88-4255-A436-8B1494C79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7BCE5-067D-48D5-9B4B-F612E60165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AD3AE-6E08-4914-85A1-17E7E2C5C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CA6C3-D527-4FE5-9F45-E45F453A1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0F54D-3F94-4145-98BF-CB01ED145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6A417-861A-4D5B-9FC0-F944794D7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3F65E-5237-4BA6-90F1-FFA1C7F17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5E4B7-A661-4831-82D8-A73767A88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388B1-24C6-40C5-85FC-1E3DF4E17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9A754-26BC-4EF4-8150-4AE025DA8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6BA5D-9791-4567-83F3-9D615E12D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0A6EB-1EEA-469B-93AA-84DC01BFA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6FC7F1-24BD-4F13-AF0E-DEA6EE5464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648BE-7F87-41D7-BB0B-F76F10DC1B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01EC4-2723-48FF-8DB0-397E9F4EB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9C1FE-C331-461B-B14D-18665BE0C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C8A07-C04D-4784-B830-ABE1AE04B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A738-A970-438D-90DC-7D6FCE6D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74F45-CF1A-438B-8204-3F9DD669B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36DB5-A1C4-4448-A5A6-E7B308894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A9F5A-E320-4C23-81AA-6AA9D16DC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9B9B2-74E3-451C-AAD6-A943A2D64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84EF1-BF9C-411A-951E-2AEDD25B2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919D2D-16BC-42E8-AB05-4F400289B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FE981-A0AC-4464-8ACF-C3BD80E2A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55031D-8D1E-49D4-A0D9-16E54CFC1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17DA9-616D-45F8-B41C-A4F1899CC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B9B95E-3C3D-47E1-A6C7-514ADD136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5CEBE-CBB3-40EF-8A29-C145D061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062742-A586-4ECA-A44B-09966E8A9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C8AA9-6D8A-41BB-B541-4215E37FB9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8BD4E-8BCD-4A5E-BB4E-09C10601B3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3F040-22F7-4B78-B565-3496D1C9D9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B84AE-8E5A-4619-B49F-E9F288AA9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07353-126B-4C33-90BA-EEC906153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28A4C-B76B-4E52-851D-9CC9AC0BA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80363-6A17-4753-88FE-2C0AAE61C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025AE-6583-4D09-AE1B-48B935A6F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41D3E4-530D-4F5A-8A65-CB5FF621AB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87EAD-D7E1-45CE-BBCA-25901571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A2D70E-950A-4328-9C4B-CA05E2BB6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789549-909B-4FCB-ADA8-5A7696AB91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36F37C-1FC1-43B1-9507-D3C421DCD5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E96AAC-B3C2-4FDB-9D14-52563A413A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F59B8D-4C19-486F-83E7-ED6BEC2D04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A039B-34CF-487D-B11C-E9C5BD5C66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9E415-88F2-401E-BC99-CA4534CDB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52E1B-7B4E-4B34-981E-716E57162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A45F1-6C3B-4309-AFD9-49FF6D9DF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2BB8A-C2D4-42EF-8D4A-67968EB1C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183ED-E6B6-422A-A82D-420D31B8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E6CAE0-55C7-4623-8F12-BB9DBAE53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6C3AFC-D060-4AEC-8863-3C948516E2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CD6F38-4314-4FA8-916E-B4E5358979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128DB-A50F-4912-831A-1D101C7408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99E2B-A56F-4B19-81D4-3CBE39807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F72E4-F70E-4C0D-8D7F-7F6486723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B943B-18D6-44AE-9EAD-2D9C1A34F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933CD-E1DB-4797-B0FE-CF7BDE5B18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C74A91-28C1-4756-B537-175F7A9C4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55806-52FD-4423-AEAF-877DE05B9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66AE-F61A-4A9B-855C-D6E051569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E28913-4304-45EC-AF71-AC599731DB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6060D-FF68-425E-B0B2-FC52F81F5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07686E-3ED3-4E87-89C0-8622CB632C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0AB08D-8DAC-42B8-84AF-223D14F7A9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8B8D1C-EF48-4131-B232-7DBE10450C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2EAD77-EC66-468F-88B8-572AB0354A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AF742-4B87-4A93-8C88-A61AB43F2D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26F228-9B71-4D31-81FB-65B5001F8E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BB15E-DD88-40B3-88EF-70C0C44814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E8213-4616-4F1E-9C1E-44104319D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ABD4-6056-4105-BA50-AD2BC15BC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47390-C361-4B4E-A43C-278FEAF006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EB78E-2290-4C5B-A31E-CA4989880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5713F-3E4A-4A58-BECB-5B55233D4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7783F-3740-4836-8E0E-4756C1281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8010E-FD07-4370-ACAE-AF33AC808F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290FDF-FD14-49F8-9FBD-3775EFD015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9B0818-0CBB-466E-80DA-C9A3FDC7157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AC8BC-5062-4FFA-9C75-6E45FBE19C2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A6061-76DB-44FC-ABD1-5B7BE0B9A84A}"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C2AC2-B208-4CF1-9B21-D81835778953}"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6248F-B6C7-4999-B241-1B32EA89A788}"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F1A77-88C3-4593-B046-6ACAF1B8B62E}"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DD937-154A-4D80-8C60-4373BFD5A509}"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1B667-DB23-4AD9-83C0-AE5CAA265C48}"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5D39C-C75B-47A5-B187-24E0E0EA94F7}"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456840"/>
            <a:ext cx="8077320" cy="106668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Multiculturalism</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Group E:</a:t>
            </a:r>
            <a:endParaRPr b="0" lang="en-US" sz="1800" spc="-1" strike="noStrike">
              <a:solidFill>
                <a:srgbClr val="262626"/>
              </a:solidFill>
              <a:latin typeface="Calisto MT"/>
            </a:endParaRPr>
          </a:p>
        </p:txBody>
      </p:sp>
      <p:pic>
        <p:nvPicPr>
          <p:cNvPr id="366" name="Picture 4" descr="multiculturalism-freedom-equality.jpg"/>
          <p:cNvPicPr/>
          <p:nvPr/>
        </p:nvPicPr>
        <p:blipFill>
          <a:blip r:embed="rId1"/>
          <a:stretch/>
        </p:blipFill>
        <p:spPr>
          <a:xfrm>
            <a:off x="844560" y="1523880"/>
            <a:ext cx="4286160" cy="43689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6"/>
                                        </p:tgtEl>
                                        <p:attrNameLst>
                                          <p:attrName>style.visibility</p:attrName>
                                        </p:attrNameLst>
                                      </p:cBhvr>
                                      <p:to>
                                        <p:strVal val="visible"/>
                                      </p:to>
                                    </p:set>
                                    <p:animEffect filter="blinds(horizontal)" transition="in">
                                      <p:cBhvr additive="repl">
                                        <p:cTn id="7" dur="500"/>
                                        <p:tgtEl>
                                          <p:spTgt spid="3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364"/>
                                        </p:tgtEl>
                                        <p:attrNameLst>
                                          <p:attrName>style.visibility</p:attrName>
                                        </p:attrNameLst>
                                      </p:cBhvr>
                                      <p:to>
                                        <p:strVal val="visible"/>
                                      </p:to>
                                    </p:set>
                                    <p:anim calcmode="lin" valueType="num">
                                      <p:cBhvr additive="base">
                                        <p:cTn id="12" dur="500" fill="hold"/>
                                        <p:tgtEl>
                                          <p:spTgt spid="364"/>
                                        </p:tgtEl>
                                        <p:attrNameLst>
                                          <p:attrName>ppt_x</p:attrName>
                                        </p:attrNameLst>
                                      </p:cBhvr>
                                      <p:tavLst>
                                        <p:tav tm="0">
                                          <p:val>
                                            <p:strVal val="#ppt_x"/>
                                          </p:val>
                                        </p:tav>
                                        <p:tav tm="100000">
                                          <p:val>
                                            <p:strVal val="#ppt_x"/>
                                          </p:val>
                                        </p:tav>
                                      </p:tavLst>
                                    </p:anim>
                                    <p:anim calcmode="lin" valueType="num">
                                      <p:cBhvr additive="base">
                                        <p:cTn id="13"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1964 Civil Rights Act</a:t>
            </a:r>
            <a:endParaRPr b="0" lang="en-US" sz="5200" spc="-1" strike="noStrike">
              <a:solidFill>
                <a:srgbClr val="ffffff"/>
              </a:solidFill>
              <a:latin typeface="Calisto MT"/>
            </a:endParaRPr>
          </a:p>
        </p:txBody>
      </p:sp>
      <p:sp>
        <p:nvSpPr>
          <p:cNvPr id="38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de racial discrimination in public places illegal</a:t>
            </a:r>
            <a:endParaRPr b="0" lang="en-US" sz="20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ater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Restaurant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Hotels </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Buses</a:t>
            </a:r>
            <a:endParaRPr b="0" lang="en-US" sz="1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Etc.</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eacher Education</a:t>
            </a:r>
            <a:endParaRPr b="0" lang="en-US" sz="5200" spc="-1" strike="noStrike">
              <a:solidFill>
                <a:srgbClr val="ffffff"/>
              </a:solidFill>
              <a:latin typeface="Calisto MT"/>
            </a:endParaRPr>
          </a:p>
        </p:txBody>
      </p:sp>
      <p:sp>
        <p:nvSpPr>
          <p:cNvPr id="386" name=""/>
          <p:cNvSpPr txBox="1"/>
          <p:nvPr/>
        </p:nvSpPr>
        <p:spPr>
          <a:xfrm>
            <a:off x="2286000" y="2285640"/>
            <a:ext cx="6197760" cy="3840120"/>
          </a:xfrm>
          <a:prstGeom prst="rect">
            <a:avLst/>
          </a:prstGeom>
          <a:noFill/>
          <a:ln w="0">
            <a:noFill/>
          </a:ln>
        </p:spPr>
        <p:txBody>
          <a:bodyPr anchor="t">
            <a:normAutofit/>
          </a:bodyPr>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Education for students must start with teachers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Inclusion mentioned in only half of plans for improvement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Hidden Curriculum (Furman).</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Must consider diverse teacher base.</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Cannot afford to standardize multiculturalism. </a:t>
            </a:r>
            <a:endParaRPr b="0" lang="en-US" sz="1800" spc="-1" strike="noStrike">
              <a:solidFill>
                <a:srgbClr val="262626"/>
              </a:solidFill>
              <a:latin typeface="Calisto MT"/>
            </a:endParaRPr>
          </a:p>
          <a:p>
            <a:pPr lvl="1" marL="577800" indent="-295200">
              <a:spcBef>
                <a:spcPts val="601"/>
              </a:spcBef>
              <a:buClr>
                <a:srgbClr val="990000"/>
              </a:buClr>
              <a:buSzPct val="7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Social Justice and Responsibility</a:t>
            </a:r>
            <a:endParaRPr b="0" lang="en-US" sz="4000" spc="-1" strike="noStrike">
              <a:solidFill>
                <a:srgbClr val="ffffff"/>
              </a:solidFill>
              <a:latin typeface="Calisto MT"/>
            </a:endParaRPr>
          </a:p>
        </p:txBody>
      </p:sp>
      <p:sp>
        <p:nvSpPr>
          <p:cNvPr id="388"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esponsibility of teachers (Gall).</a:t>
            </a: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on multiple levels (Ga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arent and societal responsibility as wel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st investigate, not judg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ocio-cultural differences and similarities.</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How, Where, and Why</a:t>
            </a:r>
            <a:endParaRPr b="0" lang="en-US" sz="5200" spc="-1" strike="noStrike">
              <a:solidFill>
                <a:srgbClr val="ffffff"/>
              </a:solidFill>
              <a:latin typeface="Calisto MT"/>
            </a:endParaRPr>
          </a:p>
        </p:txBody>
      </p:sp>
      <p:sp>
        <p:nvSpPr>
          <p:cNvPr id="390" name="PlaceHolder 2"/>
          <p:cNvSpPr>
            <a:spLocks noGrp="1"/>
          </p:cNvSpPr>
          <p:nvPr>
            <p:ph/>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itive effects of multiculturalism.</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rban districts in most ne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ducational Importanc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urriculum influences (Whi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curricular assistance.</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in Schools</a:t>
            </a:r>
            <a:endParaRPr b="0" lang="en-US" sz="5200" spc="-1" strike="noStrike">
              <a:solidFill>
                <a:srgbClr val="ffffff"/>
              </a:solidFill>
              <a:latin typeface="Calisto MT"/>
            </a:endParaRPr>
          </a:p>
        </p:txBody>
      </p:sp>
      <p:sp>
        <p:nvSpPr>
          <p:cNvPr id="39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 </a:t>
            </a:r>
            <a:r>
              <a:rPr b="0" lang="en-US" sz="2400" spc="-1" strike="noStrike">
                <a:solidFill>
                  <a:srgbClr val="000000"/>
                </a:solidFill>
                <a:latin typeface="Calisto MT"/>
              </a:rPr>
              <a:t>Teachers can use world event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2008 Summer Olympics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lumdog Millionaire (Letita)</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Kite Runner (Agnello)</a:t>
            </a:r>
            <a:endParaRPr b="0" lang="en-US" sz="24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19040" y="455400"/>
            <a:ext cx="7824960" cy="1323720"/>
          </a:xfrm>
          <a:prstGeom prst="rect">
            <a:avLst/>
          </a:prstGeom>
          <a:noFill/>
          <a:ln w="0">
            <a:noFill/>
          </a:ln>
        </p:spPr>
        <p:txBody>
          <a:bodyPr tIns="0" bIns="0" anchor="b">
            <a:noAutofit/>
          </a:bodyPr>
          <a:p>
            <a:pPr indent="0">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Multiculturalism in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	</a:t>
            </a:r>
            <a:r>
              <a:rPr b="0" lang="en-US" sz="5200" spc="-1" strike="noStrike">
                <a:solidFill>
                  <a:srgbClr val="ffffff"/>
                </a:solidFill>
                <a:latin typeface="Calisto MT"/>
              </a:rPr>
              <a:t>Schools</a:t>
            </a:r>
            <a:endParaRPr b="0" lang="en-US" sz="5200" spc="-1" strike="noStrike">
              <a:solidFill>
                <a:srgbClr val="ffffff"/>
              </a:solidFill>
              <a:latin typeface="Calisto MT"/>
            </a:endParaRPr>
          </a:p>
        </p:txBody>
      </p:sp>
      <p:sp>
        <p:nvSpPr>
          <p:cNvPr id="39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 </a:t>
            </a:r>
            <a:r>
              <a:rPr b="0" lang="en-US" sz="2400" spc="-1" strike="noStrike">
                <a:solidFill>
                  <a:srgbClr val="000000"/>
                </a:solidFill>
                <a:latin typeface="Calisto MT"/>
              </a:rPr>
              <a:t>Martin Luther King Jr. and Malcolm X (Letita)</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Using students’ cultures in classroom</a:t>
            </a: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e importance of acknowledging differences within a classroom</a:t>
            </a:r>
            <a:endParaRPr b="0" lang="en-US" sz="2400" spc="-1" strike="noStrike">
              <a:solidFill>
                <a:srgbClr val="262626"/>
              </a:solidFill>
              <a:latin typeface="Calisto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58800" y="304560"/>
            <a:ext cx="7824960" cy="16002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Calisto MT"/>
              </a:rPr>
              <a:t>	</a:t>
            </a:r>
            <a:r>
              <a:rPr b="0" lang="en-US" sz="4700" spc="-1" strike="noStrike">
                <a:solidFill>
                  <a:srgbClr val="ffffff"/>
                </a:solidFill>
                <a:latin typeface="Calisto MT"/>
              </a:rPr>
              <a:t>Ways to Incorporate Multiculturalism in Schools</a:t>
            </a:r>
            <a:endParaRPr b="0" lang="en-US" sz="4700" spc="-1" strike="noStrike">
              <a:solidFill>
                <a:srgbClr val="ffffff"/>
              </a:solidFill>
              <a:latin typeface="Calisto MT"/>
            </a:endParaRPr>
          </a:p>
        </p:txBody>
      </p:sp>
      <p:sp>
        <p:nvSpPr>
          <p:cNvPr id="39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ed to go beyond just accept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rnational food fai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osters of important diverse figure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eacher studi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haring student experiences </a:t>
            </a:r>
            <a:endParaRPr b="0" lang="en-US" sz="2000" spc="-1" strike="noStrike">
              <a:solidFill>
                <a:srgbClr val="262626"/>
              </a:solidFill>
              <a:latin typeface="Calisto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Multiculturalism at URI</a:t>
            </a:r>
            <a:endParaRPr b="0" lang="en-US" sz="5200" spc="-1" strike="noStrike">
              <a:solidFill>
                <a:srgbClr val="ffffff"/>
              </a:solidFill>
              <a:latin typeface="Calisto MT"/>
            </a:endParaRPr>
          </a:p>
        </p:txBody>
      </p:sp>
      <p:sp>
        <p:nvSpPr>
          <p:cNvPr id="39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 building devoted to spreading ide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ks to make and maintai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vites people to understan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iversity Week</a:t>
            </a:r>
            <a:endParaRPr b="0" lang="en-US" sz="5200" spc="-1" strike="noStrike">
              <a:solidFill>
                <a:srgbClr val="ffffff"/>
              </a:solidFill>
              <a:latin typeface="Calisto MT"/>
            </a:endParaRPr>
          </a:p>
        </p:txBody>
      </p:sp>
      <p:sp>
        <p:nvSpPr>
          <p:cNvPr id="40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mportance of diversity and identity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elp from Psychology, Sociology and other academic departments (multicultural cent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cheduled workshops (multicultural center)</a:t>
            </a:r>
            <a:endParaRPr b="0" lang="en-US" sz="2000" spc="-1" strike="noStrike">
              <a:solidFill>
                <a:srgbClr val="262626"/>
              </a:solidFill>
              <a:latin typeface="Calisto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Other Events</a:t>
            </a:r>
            <a:endParaRPr b="0" lang="en-US" sz="5200" spc="-1" strike="noStrike">
              <a:solidFill>
                <a:srgbClr val="ffffff"/>
              </a:solidFill>
              <a:latin typeface="Calisto MT"/>
            </a:endParaRPr>
          </a:p>
        </p:txBody>
      </p:sp>
      <p:sp>
        <p:nvSpPr>
          <p:cNvPr id="402" name=""/>
          <p:cNvSpPr txBox="1"/>
          <p:nvPr/>
        </p:nvSpPr>
        <p:spPr>
          <a:xfrm>
            <a:off x="2286000" y="2285640"/>
            <a:ext cx="6197760" cy="3840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elebrations Around the World (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l Campus Talent Show</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iversity Quilt </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orld Voices, World Visions</a:t>
            </a:r>
            <a:endParaRPr b="0" lang="en-US" sz="2000" spc="-1" strike="noStrike">
              <a:solidFill>
                <a:srgbClr val="262626"/>
              </a:solidFill>
              <a:latin typeface="Calisto MT"/>
            </a:endParaRPr>
          </a:p>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 </a:t>
            </a:r>
            <a:r>
              <a:rPr b="0" lang="en-US" sz="2000" spc="-1" strike="noStrike">
                <a:solidFill>
                  <a:srgbClr val="262626"/>
                </a:solidFill>
                <a:latin typeface="Calisto MT"/>
              </a:rPr>
              <a:t>(multicultural center)</a:t>
            </a:r>
            <a:endParaRPr b="0" lang="en-US" sz="20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Introduction</a:t>
            </a:r>
            <a:r>
              <a:rPr b="0" lang="en-US" sz="5200" spc="-1" strike="noStrike">
                <a:solidFill>
                  <a:srgbClr val="ffffff"/>
                </a:solidFill>
                <a:latin typeface="Calisto MT"/>
              </a:rPr>
              <a:t>	</a:t>
            </a:r>
            <a:endParaRPr b="0" lang="en-US" sz="5200" spc="-1" strike="noStrike">
              <a:solidFill>
                <a:srgbClr val="ffffff"/>
              </a:solidFill>
              <a:latin typeface="Calisto MT"/>
            </a:endParaRPr>
          </a:p>
        </p:txBody>
      </p:sp>
      <p:sp>
        <p:nvSpPr>
          <p:cNvPr id="36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ulticulturalism:  The preservation of different cultures or cultural identities within a unified society.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rends of segregation and racism have plagued America’s schools for year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nally, Multiculturalism has been incorporated into schools through curriculum, and extra-curricular activities.</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79200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Policy</a:t>
            </a:r>
            <a:r>
              <a:rPr b="0" lang="en-US" sz="5200" spc="-1" strike="noStrike">
                <a:solidFill>
                  <a:srgbClr val="ffffff"/>
                </a:solidFill>
                <a:latin typeface="Calisto MT"/>
              </a:rPr>
              <a:t> Implications</a:t>
            </a:r>
            <a:endParaRPr b="0" lang="en-US" sz="5200" spc="-1" strike="noStrike">
              <a:solidFill>
                <a:srgbClr val="ffffff"/>
              </a:solidFill>
              <a:latin typeface="Calisto MT"/>
            </a:endParaRPr>
          </a:p>
        </p:txBody>
      </p:sp>
      <p:sp>
        <p:nvSpPr>
          <p:cNvPr id="404" name="PlaceHolder 2"/>
          <p:cNvSpPr>
            <a:spLocks noGrp="1"/>
          </p:cNvSpPr>
          <p:nvPr>
            <p:ph/>
          </p:nvPr>
        </p:nvSpPr>
        <p:spPr>
          <a:xfrm>
            <a:off x="457200" y="1981080"/>
            <a:ext cx="8229600" cy="46483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 order to incorporate the ideals of multiculturalism in the many areas that students encounter it in their schools, several steps should be taken.  First, almost every aspect of the classroom curriculum can be adjusted so that various cultures, their histories, and their influences can be studied and learned.  Second, co-curricular activities and events can be held so that the students have a way other than learning behind a desk to interact with their classmates and learn their cultures.  Teachers need to be educated first in these different backgrounds, and the school administrations should make efforts to minimize discrimination around the school. Inclusion is the only process which epitomizes multiculturalism in its entirety.  We live in a world where hundreds of backgrounds intertwine every day, and our schools where our students learn should reflect just that.</a:t>
            </a:r>
            <a:endParaRPr b="0" lang="en-US" sz="2000" spc="-1" strike="noStrike">
              <a:solidFill>
                <a:srgbClr val="262626"/>
              </a:solidFill>
              <a:latin typeface="Calisto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rt Cases Preventing Multiculturalism</a:t>
            </a:r>
            <a:endParaRPr b="0" lang="en-US" sz="5200" spc="-1" strike="noStrike">
              <a:solidFill>
                <a:srgbClr val="ffffff"/>
              </a:solidFill>
              <a:latin typeface="Calisto MT"/>
            </a:endParaRPr>
          </a:p>
        </p:txBody>
      </p:sp>
      <p:sp>
        <p:nvSpPr>
          <p:cNvPr id="37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lessy vs. Fergus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rown vs. Board of Educ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ittle Rock, Arkansas 1957</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t-in at Woolworths 1960</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University of Mississippi 1962</a:t>
            </a:r>
            <a:endParaRPr b="0" lang="en-US" sz="2000" spc="-1" strike="noStrike">
              <a:solidFill>
                <a:srgbClr val="262626"/>
              </a:solidFill>
              <a:latin typeface="Calisto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Plessy vs. Ferguson      1896      </a:t>
            </a:r>
            <a:endParaRPr b="0" lang="en-US" sz="5200" spc="-1" strike="noStrike">
              <a:solidFill>
                <a:srgbClr val="ffffff"/>
              </a:solidFill>
              <a:latin typeface="Calisto MT"/>
            </a:endParaRPr>
          </a:p>
        </p:txBody>
      </p:sp>
      <p:sp>
        <p:nvSpPr>
          <p:cNvPr id="37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Homer Plessy: arrested June 7, 1892 for testing the Separate Car Law. (Brook)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lbion Tourgee was his legal Representative. (Brook)</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parate but equal accommodations for whites and blacks (Lofgren)</a:t>
            </a:r>
            <a:endParaRPr b="0" lang="en-US" sz="2000" spc="-1" strike="noStrike">
              <a:solidFill>
                <a:srgbClr val="262626"/>
              </a:solidFill>
              <a:latin typeface="Calisto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Brown vs. Board 1953-1954</a:t>
            </a:r>
            <a:endParaRPr b="0" lang="en-US" sz="5200" spc="-1" strike="noStrike">
              <a:solidFill>
                <a:srgbClr val="ffffff"/>
              </a:solidFill>
              <a:latin typeface="Calisto MT"/>
            </a:endParaRPr>
          </a:p>
        </p:txBody>
      </p:sp>
      <p:sp>
        <p:nvSpPr>
          <p:cNvPr id="374"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gregation in public schools: unconstitutional and unfair (Kluger)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e Jure racial segregation was ruled a violation (Klug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ntegration </a:t>
            </a:r>
            <a:endParaRPr b="0" lang="en-US" sz="2000" spc="-1" strike="noStrike">
              <a:solidFill>
                <a:srgbClr val="262626"/>
              </a:solidFill>
              <a:latin typeface="Calisto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tle Rock, Arkansas   1957</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New Government mandate calling for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9 African American students enrolled in Little Rock high school (Beals)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resident Dwight D. Eisenhower intervened in favor of the Little Rock Nine. (Beals)</a:t>
            </a:r>
            <a:endParaRPr b="0" lang="en-US" sz="2000" spc="-1" strike="noStrike">
              <a:solidFill>
                <a:srgbClr val="262626"/>
              </a:solidFill>
              <a:latin typeface="Calisto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Sit-in at Woolworths    1960</a:t>
            </a:r>
            <a:endParaRPr b="0" lang="en-US" sz="5200" spc="-1" strike="noStrike">
              <a:solidFill>
                <a:srgbClr val="ffffff"/>
              </a:solidFill>
              <a:latin typeface="Calisto MT"/>
            </a:endParaRPr>
          </a:p>
        </p:txBody>
      </p:sp>
      <p:sp>
        <p:nvSpPr>
          <p:cNvPr id="378"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reensboro, North Carolina</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African Americans were neglected and denied service at the lunch counter (Smithsonian)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ach day more students came for a silent sit-in until serve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University of Mississippi 1962</a:t>
            </a:r>
            <a:endParaRPr b="0" lang="en-US" sz="5200" spc="-1" strike="noStrike">
              <a:solidFill>
                <a:srgbClr val="ffffff"/>
              </a:solidFill>
              <a:latin typeface="Calisto MT"/>
            </a:endParaRPr>
          </a:p>
        </p:txBody>
      </p:sp>
      <p:sp>
        <p:nvSpPr>
          <p:cNvPr id="380"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James Meredith: the first black student at the University (Universit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Riots due to integrati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ack of security, so Kennedy assigned Marshalls and the National Guard.</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Desegregation</a:t>
            </a:r>
            <a:endParaRPr b="0" lang="en-US" sz="5200" spc="-1" strike="noStrike">
              <a:solidFill>
                <a:srgbClr val="ffffff"/>
              </a:solidFill>
              <a:latin typeface="Calisto MT"/>
            </a:endParaRPr>
          </a:p>
        </p:txBody>
      </p:sp>
      <p:sp>
        <p:nvSpPr>
          <p:cNvPr id="382"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Process of ending racial segregation  in schools, restaurants, and other business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1954 - U.S. Supreme Court declared segregated schools unconstitutional</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2:45Z</dcterms:created>
  <dc:creator>Derek Fleming</dc:creator>
  <dc:description/>
  <dc:language>en-US</dc:language>
  <cp:lastModifiedBy>Bedell Family</cp:lastModifiedBy>
  <cp:lastPrinted>2009-12-08T00:13:34Z</cp:lastPrinted>
  <dcterms:modified xsi:type="dcterms:W3CDTF">2010-04-15T12:23:25Z</dcterms:modified>
  <cp:revision>48</cp:revision>
  <dc:subject/>
  <dc:title>Multiculturalism</dc:title>
</cp:coreProperties>
</file>